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84EA-0A10-47FF-909F-B2EE36364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9D75-0296-4B40-9D89-67C9362D3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C713-4C1D-48EB-B4A4-361358D04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E75D-2AED-44C5-B9BE-0976523A3A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7A2D-3A1D-4B96-9194-FB87C64632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90E6-6B8A-4E0F-8374-373F89477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D55B-F707-4212-A2C5-4E423CCD3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49FC-312D-45A9-B6BC-3262EB36C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ABB9-A40B-4B41-B150-915972070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A9E1-8BB6-4A8D-A15A-B379AC0D1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C989-5AD6-499D-B24E-B6DE5C9B1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B4A2-1CFA-46E6-8AD1-E9D7216AC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B6AB-1993-40E4-BE54-831BF2D92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1447920"/>
            <a:ext cx="8229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4" name="Picture 12" descr="logo-rotunda"/>
          <p:cNvPicPr/>
          <p:nvPr/>
        </p:nvPicPr>
        <p:blipFill>
          <a:blip r:embed="rId2"/>
          <a:stretch/>
        </p:blipFill>
        <p:spPr>
          <a:xfrm>
            <a:off x="685800" y="6086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SDCI Project Review, Oct. 29,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:00-9:20: Overview, MV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:20-9:50: Details, Zhenyang Liu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:50-10:00: GUI, Tyler Clinch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00-10:10: Traffic isolation, Zhenzhen Yan, U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10-10:30: Bob Russell, UN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30-10:40: Bre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:40-11:00: Tim Carlin, UN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:00-11:20: John Dennis, NC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:20-12:00: Discu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:00-1:30: Lunch/Br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:00–4:30: Diversity activities, Carolyn Vallas, CDE, U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A167-8DF6-4613-9C52-EF9FCC77C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434960" y="597384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Supported by NSF grants: OCI-1127340,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OCI-1127228, OCI-1127341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Questions on this slide set: Malathi Veeraraghavan, mv5g@virginia.edu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a-datacenter networking/ap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hn Dennis has identified interesting topology/routing probl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fewer than 1000 cores, application is CPU limited, but with more than 1000 cores, it is network limi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H and NCAR will run MPI apps and collect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VA will analyze and design datacenter networking solu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C49B-2EE2-4904-99DB-0253E7B25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ear 1 Accomplish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ide-area data movement traffic characterized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UVA and NCAR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idFTP logs obtained and analyz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ns obtained on NERSC and SLAC data-transfer nodes and experiments conducted for throughput variance stud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blished an SC paper, an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ing GUI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broader impa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periments on DOE ANI WAN 100GE and LIMAN testbe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 tools for controlled data collection for variance stud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behavior on 100 Gbps paths (impact of bit error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are RoCE over L2 circuit vs TCP over IP-routed path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UNH and UV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gineering solution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idFTP integrated with RoCE and IDC client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UNH and UV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center networking: b/g acqd. and prob. identified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all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tablished a wide network of collaborat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7A5F-2054-45D4-84E3-B61C7A321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cknowledg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154944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OCI &amp; co-PIs: Kevin Thompson, Bob Russell and John Denn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net: Chris Tracy, Brian Tierney, Joe Burrescia, Jon Dugan, Andy Lake, Tareq Saif, and Eric Pouyou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L: Ian Foster, Raj Kettimuthu, and Linda Winkl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RSC: Brent Draney, Jason Hick, Jason Le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AC: Yee-Ting Li and Wei Ya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2: Jason Zurawski and Eric Boy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. Tech: Jeff Crowder, John Nichols, John Law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CAR: Pete Siemsen, Steve Emmerson, Marla Meeh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ston U: Chuck Von Lichtenberg &amp; David Starobinsk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idFTP data: BNL (Scott Bradley and John Bigrow), NICS (Victor Hazelwood), ORNL (Galen Shipman and Scott Atchle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CE: Ezra Kissel, IU, D. K. Panda, OS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O FDT: Ashish Mahabal, Calte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7A48-B756-4634-9F8E-6FB60716D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e-area data move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11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stions we asked (“science” phase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science data transfer rates high or still l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re is significant variance in throughp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pite of increasing rates (which means shorter transfer durations), are transfer sizes large enough to justify VC setup overhe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od used to 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ained GridFTP logs from four sou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ote R statistical programs to analyze logs (supporting: shell, awk, Javascript, SQ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AFD4-E4DA-4A88-A02B-70F90F584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676520" y="613728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cientists discover that which i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ngineers create that which never was”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e-area data move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11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swer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fer ra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4 analyzed paths, found max rate of 4.3 Gbps and on all 4 paths max rate was 2.5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 significant fraction of link capacity (10 G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oughput varia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ificant: coefficient of variation: 30%-75% (4 path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us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er parameters (e.g., parallel streams, close and open TCP connections between files, stripin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etition for server resources by concurrent transfer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network (link util is low, and packet losses r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36ED-641C-48D6-A478-7D6472BDE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1676520" y="6137280"/>
            <a:ext cx="579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cientists discover that which i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ngineers create that which never was”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pite of increasing rates (which means shorter transfer durations), are transfer sizes large enough to justify VC setup overhe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significant fraction of transfers occur in sessions whose durations are longer than 10 times VC setup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hypothetical third-quartile transfer rate to compute duration rather than using actual durations to make the above determ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6C98-A38D-4A27-B91D-8D69D1AB1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s on DOE ANI WAN 100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LIMAN testb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veraged our ESnet DOE project relationship to gain login access to ANI 100 GbE WAN and Long Island MAN testbe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s ru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ed tools on LIMAN testbed for controlled data collection for variance studi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pact of competition for CPU and packet los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eploye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hese tools on production NERSC and SLAC GridFTP servers and data collected for controlled transfers – analysis ongo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rved whole 100 GE testbed (NERSC and ANL) for weekend and ran continuous GridFTP/TCP transf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losses! TCP throughput stayed close to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96 G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? Bit errors corrected by FEC (thanks to Chris Tracy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CE over L2 circuit vs TCP over IP-routed path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ults in UNH present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A3A2-AD83-4736-8413-DBD25F8E9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4BF5-4623-4CC0-952D-76D46C7D0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12720" y="1096920"/>
            <a:ext cx="7724880" cy="5638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 rot="16200000">
            <a:off x="6188040" y="3311640"/>
            <a:ext cx="4788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 DOE PI meeting, March 1-2, 2012</a:t>
            </a:r>
            <a:endParaRPr b="1" lang="en-US" sz="16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gineering solu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ng forward with GridFTP+RoCE+IDC client integ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 on DYNES – Internet ION plan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VA proposal for DYNES approved: awaiting deliv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logins obtain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GP (regional – so no FDT server, but IDC controll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ston University (CNS project collabor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s made: Julio Ibarra, Martin Sw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 is to give each other logins for wide-area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eraging collaboration with ESnet in DOE pro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ing IDC Java client with ANI testbed OSCARS ID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4700-8A9D-4DBF-BF2F-EB6DA86AF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2438280" y="6248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[Needs further discussion]</a:t>
            </a: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2:50:21Z</dcterms:created>
  <dc:creator>Malathi Veeraraghavan</dc:creator>
  <dc:description/>
  <dc:language>en-US</dc:language>
  <cp:lastModifiedBy>Malathi Veeraraghavan</cp:lastModifiedBy>
  <cp:lastPrinted>2012-03-26T18:40:04Z</cp:lastPrinted>
  <dcterms:modified xsi:type="dcterms:W3CDTF">2012-10-29T03:15:18Z</dcterms:modified>
  <cp:revision>1589</cp:revision>
  <dc:subject/>
  <dc:title>PowerPoint Presentation</dc:title>
</cp:coreProperties>
</file>